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5F9-FF98-444B-B06A-98C6ECF3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E966-8AFD-41D4-AFEE-BA9A582D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2F51-6887-4F9D-BB29-577124EC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E3EF-AC63-4A04-8B5D-13128148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A5F-0211-4F59-A9CB-AA7E441A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D34-334F-47B6-920B-2AE45B0B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3C4F-05CB-4FDC-80C9-9BDFB1FB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FF5-C069-4905-AE53-91DBCCEF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C73-80FE-489F-8062-555C4D5B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5B5-FCC7-4427-B4B7-07F04775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489-D771-4D66-A749-8E856595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7270-1B95-41E2-B3BC-51DE46B9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7A6B-09BC-4998-8671-4CA916AFC5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 ready reference feed dataset for the Ethiopian Livestock Feed Projec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dugna Tole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0" y="60768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thiopian Livestock Feed Project Synthesis workshop, Addis Ababa, 28-29 May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database provides better organized and more refined information on nutritive value of fee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n be enriched and updated from existing literature and as new information is generat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ce information shows price trends and variability 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rrent price information must be obtained for use in ration formul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Calibri"/>
              </a:rPr>
              <a:t>Importance of feed databas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rovides information 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ypes of feed resourc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Nutritive value of the feed resourc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dicative price of the feed resources (price trends and variability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dispensable inputs for ration formula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Livestock production in developing countries (Realities in the past and recent past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ominated by subsistence oriented smallholder livestock production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inly depend on feed produced or available on the far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ims at making optimal use of available feed resources rather than maximizing produ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tion formulation (balancing rations with requirements) has not been a major concer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1828800" y="380880"/>
            <a:ext cx="419112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urrent Scena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685800" y="1981080"/>
            <a:ext cx="259092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allholder livestock p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533520" y="3429000"/>
            <a:ext cx="228600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dless livestock p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4572000" y="1981080"/>
            <a:ext cx="373392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erging commercial/market oriented livestock  p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533520" y="4800600"/>
            <a:ext cx="24382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ban &amp; peri-urban livestock p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17"/>
          <p:cNvSpPr/>
          <p:nvPr/>
        </p:nvSpPr>
        <p:spPr>
          <a:xfrm>
            <a:off x="3581280" y="3429000"/>
            <a:ext cx="1676520" cy="916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dless rural livestock p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20"/>
          <p:cNvSpPr/>
          <p:nvPr/>
        </p:nvSpPr>
        <p:spPr>
          <a:xfrm>
            <a:off x="6095880" y="3352680"/>
            <a:ext cx="3048120" cy="1739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ed /no feed produced or available on the fa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d dependence on purchased f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m at increasing production/produ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34"/>
          <p:cNvSpPr/>
          <p:nvPr/>
        </p:nvSpPr>
        <p:spPr>
          <a:xfrm>
            <a:off x="4419720" y="5638680"/>
            <a:ext cx="4724280" cy="119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on feed quality and 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making decision to purchase feed ingredi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formulating balanced d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Straight Connector 42"/>
          <p:cNvSpPr/>
          <p:nvPr/>
        </p:nvSpPr>
        <p:spPr>
          <a:xfrm flipH="1">
            <a:off x="2133360" y="1142280"/>
            <a:ext cx="1066680" cy="762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Straight Connector 45"/>
          <p:cNvSpPr/>
          <p:nvPr/>
        </p:nvSpPr>
        <p:spPr>
          <a:xfrm>
            <a:off x="4724280" y="1066680"/>
            <a:ext cx="1600200" cy="838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Down Arrow 75"/>
          <p:cNvSpPr/>
          <p:nvPr/>
        </p:nvSpPr>
        <p:spPr>
          <a:xfrm>
            <a:off x="1752480" y="2743200"/>
            <a:ext cx="46080" cy="53352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Down Arrow 76"/>
          <p:cNvSpPr/>
          <p:nvPr/>
        </p:nvSpPr>
        <p:spPr>
          <a:xfrm>
            <a:off x="1600200" y="4191120"/>
            <a:ext cx="152280" cy="53316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ight Arrow 77"/>
          <p:cNvSpPr/>
          <p:nvPr/>
        </p:nvSpPr>
        <p:spPr>
          <a:xfrm flipV="1">
            <a:off x="2971800" y="3855960"/>
            <a:ext cx="533520" cy="4608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ight Arrow 78"/>
          <p:cNvSpPr/>
          <p:nvPr/>
        </p:nvSpPr>
        <p:spPr>
          <a:xfrm>
            <a:off x="5257800" y="3886200"/>
            <a:ext cx="762120" cy="76320"/>
          </a:xfrm>
          <a:prstGeom prst="rightArrow">
            <a:avLst>
              <a:gd name="adj1" fmla="val 50000"/>
              <a:gd name="adj2" fmla="val 49929"/>
            </a:avLst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Down Arrow 80"/>
          <p:cNvSpPr/>
          <p:nvPr/>
        </p:nvSpPr>
        <p:spPr>
          <a:xfrm flipH="1">
            <a:off x="7467480" y="2743200"/>
            <a:ext cx="46080" cy="53352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Down Arrow 81"/>
          <p:cNvSpPr/>
          <p:nvPr/>
        </p:nvSpPr>
        <p:spPr>
          <a:xfrm>
            <a:off x="7620120" y="5257800"/>
            <a:ext cx="46080" cy="30492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" name="Straight Arrow Connector 86"/>
          <p:cNvCxnSpPr>
            <a:stCxn id="52" idx="3"/>
          </p:cNvCxnSpPr>
          <p:nvPr/>
        </p:nvCxnSpPr>
        <p:spPr>
          <a:xfrm flipV="1">
            <a:off x="2971440" y="4494960"/>
            <a:ext cx="3048840" cy="6296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1"/>
          <p:cNvSpPr/>
          <p:nvPr/>
        </p:nvSpPr>
        <p:spPr>
          <a:xfrm>
            <a:off x="3429000" y="2133720"/>
            <a:ext cx="3200400" cy="28954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Pre-requisites for ration bala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4267080" y="0"/>
            <a:ext cx="2895840" cy="15238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utrient requirement of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0" y="3657600"/>
            <a:ext cx="2819520" cy="2438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utrient content of f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6781680" y="4648320"/>
            <a:ext cx="2362320" cy="22096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ice of f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" name="Straight Arrow Connector 7"/>
          <p:cNvCxnSpPr/>
          <p:nvPr/>
        </p:nvCxnSpPr>
        <p:spPr>
          <a:xfrm flipV="1">
            <a:off x="2895120" y="4190400"/>
            <a:ext cx="686520" cy="5338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0" name="Straight Arrow Connector 9"/>
          <p:cNvCxnSpPr/>
          <p:nvPr/>
        </p:nvCxnSpPr>
        <p:spPr>
          <a:xfrm flipH="1">
            <a:off x="5409360" y="1523520"/>
            <a:ext cx="305640" cy="686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1" name="Straight Arrow Connector 11"/>
          <p:cNvCxnSpPr/>
          <p:nvPr/>
        </p:nvCxnSpPr>
        <p:spPr>
          <a:xfrm flipH="1" flipV="1">
            <a:off x="6095520" y="4800240"/>
            <a:ext cx="610560" cy="5342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Efforts made so far to avail information on nutritive value of feed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Institutions engag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174400"/>
            <a:ext cx="403848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IA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wo institutional publications on nutritive value of Ethiopian feed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LRI and Collaborator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SA Feed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thiopian feed resourc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PS-LM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ual on feed resources and feeding manage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pported database developed by ILR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CDI/VOCA – FEED Proje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eed datab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Limit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mited  number and types of feed s cover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ittle information on feeds resources of  interest for commercial produc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adequate description of feed  attributes affecting qua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mited number of parameter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20:37:07Z</dcterms:created>
  <dc:creator>toshiba</dc:creator>
  <dc:description/>
  <dc:language>en-US</dc:language>
  <cp:lastModifiedBy>PBallantyne</cp:lastModifiedBy>
  <dcterms:modified xsi:type="dcterms:W3CDTF">2012-05-29T08:07:06Z</dcterms:modified>
  <cp:revision>30</cp:revision>
  <dc:subject/>
  <dc:title>Feed Database Compilation</dc:title>
</cp:coreProperties>
</file>